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0231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87C4-7963-4569-B47E-4FF6D6256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2E70-D142-4A9C-AD9F-12AC1C07D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D803-3107-43C9-8AC9-CC71E5B28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DF7D-3D22-43AD-A072-ACDC899DE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5BE1-30FB-4E0F-8F63-A5CBBF31A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5F5F-CB8A-4FE0-8137-17D7E6E56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11DD-CDE1-40EB-9715-398A2C597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5662-CF6E-4944-BAA1-C8728AD56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BE18-A98E-49AE-B031-C6F6C8230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81AA-2AD9-427E-A757-939922926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EE69-3CF2-457C-B3CC-95D705FC9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22F5-5470-4551-9D61-E22735368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0FFD2-E04A-4212-82CD-27E7E1C35B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4400" spc="-1" strike="noStrike">
                <a:solidFill>
                  <a:srgbClr val="05f52d"/>
                </a:solidFill>
                <a:latin typeface="Arial"/>
              </a:rPr>
              <a:t>Electric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Magnetic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fiel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xwell’s equations in free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270080" y="5789520"/>
            <a:ext cx="6242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Referenc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ynman, Lectures on Physics 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vis &amp; Snyder, Vector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222200" y="189000"/>
            <a:ext cx="494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tinuity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657760" y="3333600"/>
            <a:ext cx="2924280" cy="2810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116760" y="2392200"/>
            <a:ext cx="1923840" cy="36007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867280" y="4019400"/>
            <a:ext cx="238320" cy="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695920" y="4448160"/>
            <a:ext cx="419040" cy="2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6229080" y="3333600"/>
            <a:ext cx="57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6467400" y="2809800"/>
            <a:ext cx="76320" cy="62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6810120" y="2447640"/>
            <a:ext cx="66600" cy="89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7238880" y="2448000"/>
            <a:ext cx="76320" cy="88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7534440" y="2790720"/>
            <a:ext cx="142560" cy="58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7800840" y="3276720"/>
            <a:ext cx="95400" cy="20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8020080" y="3848040"/>
            <a:ext cx="218880" cy="5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8029080" y="4305240"/>
            <a:ext cx="476280" cy="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 flipV="1">
            <a:off x="7991280" y="4809600"/>
            <a:ext cx="571320" cy="86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5695920" y="4924080"/>
            <a:ext cx="49536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5924520" y="5324400"/>
            <a:ext cx="399960" cy="20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6362640" y="5715000"/>
            <a:ext cx="181080" cy="20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6791400" y="5943240"/>
            <a:ext cx="475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7348680" y="5933880"/>
            <a:ext cx="56880" cy="1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 flipV="1">
            <a:off x="7682040" y="5610240"/>
            <a:ext cx="280800" cy="27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7877160" y="5210280"/>
            <a:ext cx="480960" cy="25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5740560" y="5645160"/>
                <a:ext cx="38736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6678720" y="4321080"/>
                <a:ext cx="457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326880" y="876240"/>
                <a:ext cx="4894560" cy="30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nary>
                          <m:naryPr>
                            <m:chr m:val="∭"/>
                            <m:supHide m:val="1"/>
                          </m:naryPr>
                          <m:sub>
                            <m:r>
                              <m:t xml:space="preserve">D</m:t>
                            </m:r>
                          </m:sub>
                          <m:sup/>
                          <m:e>
                            <m:r>
                              <m:t xml:space="preserve">ρ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r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t</m:t>
                                </m:r>
                              </m:e>
                            </m: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nary>
                          <m:naryPr>
                            <m:chr m:val="∯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</m:sub>
                          <m:sup/>
                          <m:e>
                            <m:r>
                              <m:t xml:space="preserve">ρv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</m:nary>
                      </m:e>
                      <m:e/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ρ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∇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ρv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7" name=""/>
          <p:cNvSpPr/>
          <p:nvPr/>
        </p:nvSpPr>
        <p:spPr>
          <a:xfrm flipH="1" flipV="1">
            <a:off x="5315040" y="3600360"/>
            <a:ext cx="542880" cy="400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5388120" y="3184560"/>
                <a:ext cx="35244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7342200" y="2075040"/>
                <a:ext cx="5634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152280" y="4791240"/>
            <a:ext cx="486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ate of change of the material (charge) in a control volume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s the net flux into the 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390680" y="27612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magnetic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2224080" y="1479600"/>
                <a:ext cx="3828960" cy="35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∇</m:t>
                        </m:r>
                        <m:r>
                          <m:t xml:space="preserve">Φ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</m:e>
                      <m:e>
                        <m:sSup>
                          <m:e>
                            <m:r>
                              <m:t xml:space="preserve">∇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Φ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Φ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ρ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  <m:e>
                        <m:sSup>
                          <m:e>
                            <m:r>
                              <m:t xml:space="preserve">∇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A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J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5734080" y="4314960"/>
            <a:ext cx="952560" cy="23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210360" y="3838680"/>
            <a:ext cx="293364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536400" y="450720"/>
                <a:ext cx="2894040" cy="14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χ</m:t>
                            </m:r>
                          </m:e>
                        </m:d>
                        <m:r>
                          <m:t xml:space="preserve">E</m:t>
                        </m:r>
                      </m:e>
                      <m:e>
                        <m:r>
                          <m:t xml:space="preserve">∇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ρ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edium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6" name=""/>
          <p:cNvSpPr/>
          <p:nvPr/>
        </p:nvSpPr>
        <p:spPr>
          <a:xfrm flipV="1">
            <a:off x="1019160" y="771120"/>
            <a:ext cx="6572160" cy="413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1173240" y="925200"/>
            <a:ext cx="6572160" cy="413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327320" y="1079280"/>
            <a:ext cx="6572160" cy="413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1481040" y="1233000"/>
            <a:ext cx="6572520" cy="413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1635120" y="1387080"/>
            <a:ext cx="6572160" cy="413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1789200" y="1541160"/>
            <a:ext cx="6572160" cy="413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1943280" y="1695240"/>
            <a:ext cx="6572160" cy="413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2097000" y="1848960"/>
            <a:ext cx="6572160" cy="413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2251080" y="2003040"/>
            <a:ext cx="6572160" cy="413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2405160" y="2157120"/>
            <a:ext cx="6572160" cy="413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863640" y="596520"/>
            <a:ext cx="6572160" cy="413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rot="4212600">
            <a:off x="4172040" y="2057040"/>
            <a:ext cx="1838160" cy="2610000"/>
          </a:xfrm>
          <a:prstGeom prst="ellipse">
            <a:avLst/>
          </a:prstGeom>
          <a:solidFill>
            <a:srgbClr val="ddddd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4438800" y="2390760"/>
            <a:ext cx="761760" cy="1895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4649400" y="2411280"/>
            <a:ext cx="762120" cy="1886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4851000" y="2413080"/>
            <a:ext cx="762120" cy="1923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5090760" y="2471760"/>
            <a:ext cx="733320" cy="1819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5320800" y="2558880"/>
            <a:ext cx="676440" cy="1686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5570640" y="2684520"/>
            <a:ext cx="590400" cy="1466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3828960" y="2933640"/>
            <a:ext cx="285840" cy="743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3944880" y="2658960"/>
            <a:ext cx="504720" cy="1266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4070520" y="2546280"/>
            <a:ext cx="628560" cy="1562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4242960" y="2433600"/>
            <a:ext cx="714600" cy="1790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5857920" y="2905200"/>
            <a:ext cx="419040" cy="1057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rot="2754000">
            <a:off x="5714640" y="3619440"/>
            <a:ext cx="30492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rot="2754000">
            <a:off x="6352560" y="3230280"/>
            <a:ext cx="1819440" cy="3349800"/>
          </a:xfrm>
          <a:prstGeom prst="rect">
            <a:avLst/>
          </a:prstGeom>
          <a:solidFill>
            <a:srgbClr val="dddddd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5410080" y="4133880"/>
            <a:ext cx="85680" cy="1228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6029280" y="3076560"/>
            <a:ext cx="177156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3467520" y="1161720"/>
            <a:ext cx="4742640" cy="4628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5928840" y="4471920"/>
            <a:ext cx="514440" cy="1305000"/>
          </a:xfrm>
          <a:prstGeom prst="line">
            <a:avLst/>
          </a:prstGeom>
          <a:ln w="28440">
            <a:solidFill>
              <a:srgbClr val="99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6501960" y="3559320"/>
            <a:ext cx="847800" cy="2143080"/>
          </a:xfrm>
          <a:prstGeom prst="line">
            <a:avLst/>
          </a:prstGeom>
          <a:ln w="28440">
            <a:solidFill>
              <a:srgbClr val="99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7074000" y="3244680"/>
            <a:ext cx="885600" cy="2219400"/>
          </a:xfrm>
          <a:prstGeom prst="line">
            <a:avLst/>
          </a:prstGeom>
          <a:ln w="28440">
            <a:solidFill>
              <a:srgbClr val="99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6111720" y="4311720"/>
            <a:ext cx="2905200" cy="1828800"/>
          </a:xfrm>
          <a:prstGeom prst="line">
            <a:avLst/>
          </a:prstGeom>
          <a:ln w="38160">
            <a:solidFill>
              <a:srgbClr val="05f5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6446880" y="5541840"/>
            <a:ext cx="1457280" cy="905040"/>
          </a:xfrm>
          <a:prstGeom prst="line">
            <a:avLst/>
          </a:prstGeom>
          <a:ln w="38160">
            <a:solidFill>
              <a:srgbClr val="05f5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962840" y="4610160"/>
            <a:ext cx="409680" cy="257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8147160" y="4321080"/>
                <a:ext cx="39348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649920" y="5672160"/>
                <a:ext cx="55260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6813720" y="4197240"/>
                <a:ext cx="59184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196920" y="2070000"/>
                <a:ext cx="3157560" cy="14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×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⋅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σ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8529480" y="2998800"/>
                <a:ext cx="47160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5" name=""/>
          <p:cNvSpPr/>
          <p:nvPr/>
        </p:nvSpPr>
        <p:spPr>
          <a:xfrm flipV="1">
            <a:off x="7877160" y="2885400"/>
            <a:ext cx="799920" cy="100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657760" y="200160"/>
            <a:ext cx="26481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electr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09520" y="5353200"/>
            <a:ext cx="2219400" cy="12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E): polar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: displac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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face cha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5724360" y="4305240"/>
            <a:ext cx="971640" cy="2400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219720" y="3838680"/>
            <a:ext cx="2924280" cy="561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846000" y="479520"/>
                <a:ext cx="2276640" cy="14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r>
                          <m:t xml:space="preserve">=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M</m:t>
                        </m:r>
                      </m:e>
                      <m:e>
                        <m:r>
                          <m:t xml:space="preserve">∇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1" name=""/>
          <p:cNvSpPr/>
          <p:nvPr/>
        </p:nvSpPr>
        <p:spPr>
          <a:xfrm flipV="1">
            <a:off x="1019160" y="771120"/>
            <a:ext cx="6572160" cy="413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1173240" y="925200"/>
            <a:ext cx="6572160" cy="413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1327320" y="1079280"/>
            <a:ext cx="6572160" cy="413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1481040" y="1233000"/>
            <a:ext cx="6572520" cy="413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1635120" y="1387080"/>
            <a:ext cx="6572160" cy="413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789200" y="1541160"/>
            <a:ext cx="6572160" cy="413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943280" y="1695240"/>
            <a:ext cx="6572160" cy="413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097000" y="1848960"/>
            <a:ext cx="6572160" cy="413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2251080" y="2003040"/>
            <a:ext cx="6572160" cy="413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405160" y="2157120"/>
            <a:ext cx="6572160" cy="413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863640" y="596520"/>
            <a:ext cx="6572160" cy="413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rot="4212600">
            <a:off x="4172040" y="2057040"/>
            <a:ext cx="1838160" cy="2610000"/>
          </a:xfrm>
          <a:prstGeom prst="ellipse">
            <a:avLst/>
          </a:prstGeom>
          <a:solidFill>
            <a:srgbClr val="ddddd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4438800" y="2390760"/>
            <a:ext cx="761760" cy="1895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4649400" y="2411280"/>
            <a:ext cx="762120" cy="1886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4851000" y="2413080"/>
            <a:ext cx="762120" cy="1923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5090760" y="2471760"/>
            <a:ext cx="733320" cy="1819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5320800" y="2558880"/>
            <a:ext cx="676440" cy="1686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5570640" y="2684520"/>
            <a:ext cx="590400" cy="1466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3828960" y="2933640"/>
            <a:ext cx="285840" cy="743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3944880" y="2658960"/>
            <a:ext cx="504720" cy="1266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4070520" y="2546280"/>
            <a:ext cx="628560" cy="1562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4242960" y="2433600"/>
            <a:ext cx="714600" cy="1790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5857920" y="2905200"/>
            <a:ext cx="419040" cy="1057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rot="2754000">
            <a:off x="5714640" y="3619440"/>
            <a:ext cx="30492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rot="2754000">
            <a:off x="6352560" y="3230280"/>
            <a:ext cx="1819440" cy="3349800"/>
          </a:xfrm>
          <a:prstGeom prst="rect">
            <a:avLst/>
          </a:prstGeom>
          <a:solidFill>
            <a:srgbClr val="dddddd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5410080" y="4133880"/>
            <a:ext cx="85680" cy="1228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6029280" y="3076560"/>
            <a:ext cx="177156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3467520" y="1161720"/>
            <a:ext cx="4742640" cy="4628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5928840" y="4471920"/>
            <a:ext cx="514440" cy="1305000"/>
          </a:xfrm>
          <a:prstGeom prst="line">
            <a:avLst/>
          </a:prstGeom>
          <a:ln w="28440">
            <a:solidFill>
              <a:srgbClr val="99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6501960" y="3559320"/>
            <a:ext cx="847800" cy="2143080"/>
          </a:xfrm>
          <a:prstGeom prst="line">
            <a:avLst/>
          </a:prstGeom>
          <a:ln w="28440">
            <a:solidFill>
              <a:srgbClr val="99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7074000" y="3244680"/>
            <a:ext cx="885600" cy="2219400"/>
          </a:xfrm>
          <a:prstGeom prst="line">
            <a:avLst/>
          </a:prstGeom>
          <a:ln w="28440">
            <a:solidFill>
              <a:srgbClr val="99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6111720" y="4311720"/>
            <a:ext cx="2905200" cy="1828800"/>
          </a:xfrm>
          <a:prstGeom prst="line">
            <a:avLst/>
          </a:prstGeom>
          <a:ln w="38160">
            <a:solidFill>
              <a:srgbClr val="05f5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6446880" y="5541840"/>
            <a:ext cx="1457280" cy="905040"/>
          </a:xfrm>
          <a:prstGeom prst="line">
            <a:avLst/>
          </a:prstGeom>
          <a:ln w="38160">
            <a:solidFill>
              <a:srgbClr val="05f5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962840" y="4610160"/>
            <a:ext cx="409680" cy="257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8147160" y="4321080"/>
                <a:ext cx="39348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6649920" y="5672160"/>
                <a:ext cx="55260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813720" y="4197240"/>
                <a:ext cx="59184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609480" y="2003400"/>
                <a:ext cx="2741760" cy="16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  <m:r>
                          <m:t xml:space="preserve">K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⋅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8529480" y="2998800"/>
                <a:ext cx="47160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0" name=""/>
          <p:cNvSpPr/>
          <p:nvPr/>
        </p:nvSpPr>
        <p:spPr>
          <a:xfrm flipV="1">
            <a:off x="7877160" y="2885400"/>
            <a:ext cx="799920" cy="100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657760" y="200160"/>
            <a:ext cx="26481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magn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23840" y="5486400"/>
            <a:ext cx="259092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(B): magnet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: surface cur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3098880" y="5835600"/>
                <a:ext cx="258120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∇</m:t>
                    </m:r>
                    <m:r>
                      <m:t xml:space="preserve">×</m:t>
                    </m:r>
                    <m:r>
                      <m:t xml:space="preserve">H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J</m:t>
                        </m:r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D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629160" y="0"/>
            <a:ext cx="551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s: elementary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789360" y="3073320"/>
            <a:ext cx="228600" cy="23184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3990960" y="1676520"/>
            <a:ext cx="1428840" cy="1428480"/>
          </a:xfrm>
          <a:prstGeom prst="line">
            <a:avLst/>
          </a:prstGeom>
          <a:ln w="57240">
            <a:solidFill>
              <a:srgbClr val="f82b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8942600">
            <a:off x="2962080" y="1476000"/>
            <a:ext cx="1866600" cy="3467160"/>
          </a:xfrm>
          <a:prstGeom prst="ellipse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172040" y="4514760"/>
            <a:ext cx="2190600" cy="6667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49360" y="1249200"/>
            <a:ext cx="2190600" cy="667080"/>
          </a:xfrm>
          <a:prstGeom prst="line">
            <a:avLst/>
          </a:prstGeom>
          <a:ln w="5724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181400" y="4543560"/>
            <a:ext cx="266760" cy="1238040"/>
          </a:xfrm>
          <a:prstGeom prst="line">
            <a:avLst/>
          </a:prstGeom>
          <a:ln w="57240">
            <a:solidFill>
              <a:srgbClr val="05f5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35400" y="658800"/>
            <a:ext cx="266760" cy="1238400"/>
          </a:xfrm>
          <a:prstGeom prst="line">
            <a:avLst/>
          </a:prstGeom>
          <a:ln w="57240">
            <a:solidFill>
              <a:srgbClr val="05f52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4924440" y="2098800"/>
                <a:ext cx="5810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q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" name=""/>
          <p:cNvSpPr/>
          <p:nvPr/>
        </p:nvSpPr>
        <p:spPr>
          <a:xfrm>
            <a:off x="3925800" y="3335400"/>
            <a:ext cx="247680" cy="1152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13320" y="1936800"/>
            <a:ext cx="247320" cy="11239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6342120" y="4626000"/>
                <a:ext cx="148104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qv</m:t>
                        </m:r>
                        <m:r>
                          <m:t xml:space="preserve">×</m:t>
                        </m:r>
                        <m:r>
                          <m:t xml:space="preserve">r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r</m:t>
                                </m:r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4102200" y="3584520"/>
                <a:ext cx="16239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−</m:t>
                    </m:r>
                    <m:r>
                      <m:t xml:space="preserve">R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2798640" y="4989600"/>
                <a:ext cx="114012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qr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r</m:t>
                                </m:r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3659040" y="2928960"/>
                <a:ext cx="50508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5886360" y="685800"/>
            <a:ext cx="3257640" cy="268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oving charge </a:t>
            </a:r>
            <a:r>
              <a:rPr b="0" lang="en-US" sz="2400" spc="-1" strike="noStrike">
                <a:solidFill>
                  <a:srgbClr val="f82b02"/>
                </a:solidFill>
                <a:latin typeface="Arial Black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s an electric 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l as a magnet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eld around itself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f52d"/>
                </a:solidFill>
                <a:latin typeface="Arial Black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ff"/>
                </a:solidFill>
                <a:latin typeface="Arial Black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971800" y="0"/>
            <a:ext cx="6172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oving charge </a:t>
            </a:r>
            <a:r>
              <a:rPr b="0" lang="en-US" sz="3200" spc="-1" strike="noStrike">
                <a:solidFill>
                  <a:srgbClr val="f82b02"/>
                </a:solidFill>
                <a:latin typeface="Arial Black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ffected by the local values of the </a:t>
            </a:r>
            <a:r>
              <a:rPr b="0" lang="en-US" sz="3200" spc="-1" strike="noStrike">
                <a:solidFill>
                  <a:srgbClr val="05f52d"/>
                </a:solidFill>
                <a:latin typeface="Arial Black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0000ff"/>
                </a:solidFill>
                <a:latin typeface="Arial Black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ields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renz For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844560" y="2092320"/>
                <a:ext cx="312264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E</m:t>
                        </m:r>
                        <m:r>
                          <m:t xml:space="preserve">+</m:t>
                        </m:r>
                        <m:r>
                          <m:t xml:space="preserve">v</m:t>
                        </m:r>
                        <m:r>
                          <m:t xml:space="preserve">×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 rot="20242800">
            <a:off x="2590560" y="3971520"/>
            <a:ext cx="1724040" cy="2390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19009800">
            <a:off x="6696000" y="2324160"/>
            <a:ext cx="1542960" cy="1143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er of gy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20242800">
            <a:off x="3144600" y="3582720"/>
            <a:ext cx="1724040" cy="2390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20242800">
            <a:off x="3688920" y="3269880"/>
            <a:ext cx="1724040" cy="2390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19596000">
            <a:off x="1125360" y="2995200"/>
            <a:ext cx="3813480" cy="1211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111480" y="4030560"/>
            <a:ext cx="507960" cy="532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668760" y="3645000"/>
            <a:ext cx="509400" cy="528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05000" y="4162320"/>
            <a:ext cx="476280" cy="438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668760" y="3652920"/>
            <a:ext cx="549360" cy="587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4133880"/>
            <a:ext cx="193680" cy="57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013400">
            <a:off x="3398760" y="4070160"/>
            <a:ext cx="176400" cy="139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48320" y="5610240"/>
            <a:ext cx="1714320" cy="19080"/>
          </a:xfrm>
          <a:prstGeom prst="line">
            <a:avLst/>
          </a:prstGeom>
          <a:ln w="38160">
            <a:solidFill>
              <a:srgbClr val="f82b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4533480" y="4429080"/>
            <a:ext cx="95400" cy="10000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6114960" y="4327560"/>
                <a:ext cx="5716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6026040" y="5691240"/>
                <a:ext cx="42876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206960" y="4772160"/>
                <a:ext cx="29052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4410000" y="5454720"/>
            <a:ext cx="228600" cy="23184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4602240" y="4678200"/>
            <a:ext cx="1619280" cy="8287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552920" y="3448080"/>
            <a:ext cx="533520" cy="2000160"/>
          </a:xfrm>
          <a:prstGeom prst="line">
            <a:avLst/>
          </a:prstGeom>
          <a:ln w="38160">
            <a:solidFill>
              <a:srgbClr val="05f5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5068800" y="2747880"/>
                <a:ext cx="5716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4290840" y="5326200"/>
                <a:ext cx="47952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⊕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4451400" y="5740560"/>
                <a:ext cx="476280" cy="61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 flipV="1" rot="20162400">
            <a:off x="-4567680" y="1624680"/>
            <a:ext cx="13010400" cy="3943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223880" y="3309840"/>
            <a:ext cx="10332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428760" y="839880"/>
                <a:ext cx="5081400" cy="243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∇</m:t>
                        </m:r>
                        <m:r>
                          <m:t xml:space="preserve">⋅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r>
                          <m:t xml:space="preserve">ρ</m:t>
                        </m:r>
                      </m:e>
                      <m:e/>
                      <m:e>
                        <m:r>
                          <m:t xml:space="preserve">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π</m:t>
                            </m:r>
                          </m:den>
                        </m:f>
                        <m:nary>
                          <m:naryPr>
                            <m:chr m:val="∭"/>
                            <m:supHide m:val="1"/>
                          </m:naryPr>
                          <m:sub>
                            <m:r>
                              <m:t xml:space="preserve">D</m:t>
                            </m:r>
                          </m:sub>
                          <m:sup/>
                          <m:e>
                            <m:f>
                              <m:num>
                                <m:r>
                                  <m:t xml:space="preserve">ρ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r</m:t>
                                    </m:r>
                                    <m:r>
                                      <m:t xml:space="preserve">'</m:t>
                                    </m:r>
                                  </m:e>
                                </m:d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r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r</m:t>
                                    </m:r>
                                    <m:r>
                                      <m:t xml:space="preserve">'</m:t>
                                    </m:r>
                                  </m:e>
                                </m:d>
                              </m:num>
                              <m:den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r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r</m:t>
                                        </m:r>
                                        <m:r>
                                          <m:t xml:space="preserve">'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den>
                            </m:f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r>
                          <m:t xml:space="preserve">'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87" name=""/>
          <p:cNvGrpSpPr/>
          <p:nvPr/>
        </p:nvGrpSpPr>
        <p:grpSpPr>
          <a:xfrm>
            <a:off x="3567600" y="2292480"/>
            <a:ext cx="4878000" cy="3762000"/>
            <a:chOff x="3567600" y="2292480"/>
            <a:chExt cx="4878000" cy="3762000"/>
          </a:xfrm>
        </p:grpSpPr>
        <p:sp>
          <p:nvSpPr>
            <p:cNvPr id="88" name=""/>
            <p:cNvSpPr/>
            <p:nvPr/>
          </p:nvSpPr>
          <p:spPr>
            <a:xfrm rot="2695200">
              <a:off x="4371840" y="3038400"/>
              <a:ext cx="1514520" cy="2905200"/>
            </a:xfrm>
            <a:prstGeom prst="ellipse">
              <a:avLst/>
            </a:prstGeom>
            <a:gradFill rotWithShape="0">
              <a:gsLst>
                <a:gs pos="0">
                  <a:srgbClr val="566768"/>
                </a:gs>
                <a:gs pos="50000">
                  <a:srgbClr val="bbe0e3"/>
                </a:gs>
                <a:gs pos="100000">
                  <a:srgbClr val="566768"/>
                </a:gs>
              </a:gsLst>
              <a:lin ang="2706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7248600" y="2514240"/>
              <a:ext cx="362160" cy="3457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flipV="1">
              <a:off x="5067000" y="4647960"/>
              <a:ext cx="2171880" cy="1305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5048280" y="2543400"/>
              <a:ext cx="2552760" cy="208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2" name=""/>
                <p:cNvSpPr txBox="1"/>
                <p:nvPr/>
              </p:nvSpPr>
              <p:spPr>
                <a:xfrm>
                  <a:off x="7000920" y="4175280"/>
                  <a:ext cx="381240" cy="42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3" name=""/>
                <p:cNvSpPr txBox="1"/>
                <p:nvPr/>
              </p:nvSpPr>
              <p:spPr>
                <a:xfrm>
                  <a:off x="6045480" y="5437080"/>
                  <a:ext cx="466560" cy="54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  <m:r>
                        <m:t xml:space="preserve">'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4" name=""/>
                <p:cNvSpPr txBox="1"/>
                <p:nvPr/>
              </p:nvSpPr>
              <p:spPr>
                <a:xfrm>
                  <a:off x="5945400" y="2627280"/>
                  <a:ext cx="1143000" cy="54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  <m:r>
                        <m:t xml:space="preserve">−</m:t>
                      </m:r>
                      <m:r>
                        <m:t xml:space="preserve">r</m:t>
                      </m:r>
                      <m:r>
                        <m:t xml:space="preserve">'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5" name=""/>
                <p:cNvSpPr txBox="1"/>
                <p:nvPr/>
              </p:nvSpPr>
              <p:spPr>
                <a:xfrm>
                  <a:off x="7680600" y="2292480"/>
                  <a:ext cx="765000" cy="520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r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6" name=""/>
                <p:cNvSpPr txBox="1"/>
                <p:nvPr/>
              </p:nvSpPr>
              <p:spPr>
                <a:xfrm>
                  <a:off x="4152960" y="4408560"/>
                  <a:ext cx="795240" cy="520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ρ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r</m:t>
                          </m:r>
                          <m:r>
                            <m:t xml:space="preserve">'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7" name=""/>
                <p:cNvSpPr txBox="1"/>
                <p:nvPr/>
              </p:nvSpPr>
              <p:spPr>
                <a:xfrm>
                  <a:off x="5089680" y="3608280"/>
                  <a:ext cx="549360" cy="54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8" name=""/>
          <p:cNvSpPr/>
          <p:nvPr/>
        </p:nvSpPr>
        <p:spPr>
          <a:xfrm>
            <a:off x="1104840" y="0"/>
            <a:ext cx="5562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1: Sources for </a:t>
            </a:r>
            <a:r>
              <a:rPr b="0" lang="en-US" sz="3200" spc="-1" strike="noStrike">
                <a:solidFill>
                  <a:srgbClr val="05f52d"/>
                </a:solidFill>
                <a:latin typeface="Arial Black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 </a:t>
            </a:r>
            <a:r>
              <a:rPr b="0" lang="en-US" sz="2400" spc="-1" strike="noStrike">
                <a:solidFill>
                  <a:srgbClr val="cc00ff"/>
                </a:solidFill>
                <a:latin typeface="Arial Black"/>
              </a:rPr>
              <a:t>Gauss’  Law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9040" y="274680"/>
            <a:ext cx="4816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cc00ff"/>
                </a:solidFill>
                <a:latin typeface="Arial"/>
              </a:rPr>
              <a:t>Biot-Savar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aw (magnetostatic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714680" y="1774800"/>
                <a:ext cx="5379840" cy="13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π</m:t>
                        </m:r>
                      </m:den>
                    </m:f>
                    <m:nary>
                      <m:naryPr>
                        <m:chr m:val="∭"/>
                        <m:supHide m:val="1"/>
                      </m:naryPr>
                      <m:sub>
                        <m:r>
                          <m:t xml:space="preserve">V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J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r</m:t>
                                </m:r>
                                <m:r>
                                  <m:t xml:space="preserve">'</m:t>
                                </m:r>
                              </m:e>
                            </m:d>
                            <m:r>
                              <m:t xml:space="preserve">×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r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r</m:t>
                                </m:r>
                                <m:r>
                                  <m:t xml:space="preserve">'</m:t>
                                </m:r>
                              </m:e>
                            </m:d>
                          </m:num>
                          <m:den>
                            <m:s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r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r</m:t>
                                    </m:r>
                                    <m:r>
                                      <m:t xml:space="preserve">'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3313080" y="3506760"/>
                <a:ext cx="249552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∇</m:t>
                    </m:r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2647800" y="4379760"/>
            <a:ext cx="407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E2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Magnetic Charg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3106800" y="5327640"/>
                <a:ext cx="283680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∇</m:t>
                    </m:r>
                    <m:r>
                      <m:t xml:space="preserve">×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 rot="18422400">
            <a:off x="333360" y="1076040"/>
            <a:ext cx="3048120" cy="1762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1581120" y="628560"/>
            <a:ext cx="828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220760" y="3287880"/>
            <a:ext cx="8287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2467080" y="800280"/>
            <a:ext cx="3362400" cy="1838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2440800">
            <a:off x="2377800" y="2424240"/>
            <a:ext cx="95040" cy="438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075040" y="76320"/>
                <a:ext cx="3268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5504040" y="133200"/>
                <a:ext cx="3551040" cy="110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γ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nary>
                      <m:naryPr>
                        <m:chr m:val="∮"/>
                        <m:supHide m:val="1"/>
                      </m:naryPr>
                      <m: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  <m:r>
                              <m:t xml:space="preserve">×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R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s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R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20680" y="2089080"/>
                <a:ext cx="41904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808280" y="2116080"/>
                <a:ext cx="56664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 flipH="1" flipV="1">
            <a:off x="2448000" y="2638080"/>
            <a:ext cx="2962080" cy="237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410080" y="828360"/>
            <a:ext cx="409680" cy="2057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3635280" y="2736720"/>
                <a:ext cx="4795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5191200" y="1670040"/>
                <a:ext cx="37764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3917880" y="990720"/>
                <a:ext cx="82872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 flipH="1" flipV="1">
            <a:off x="4276440" y="361440"/>
            <a:ext cx="1523880" cy="42876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134040" y="1314360"/>
            <a:ext cx="287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agnet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ield due to a loop of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015200">
            <a:off x="6762240" y="3067200"/>
            <a:ext cx="1333800" cy="28573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5802120" y="3745080"/>
            <a:ext cx="1199880" cy="2952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6659280" y="3745080"/>
            <a:ext cx="361800" cy="676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7813440" y="4613400"/>
            <a:ext cx="361800" cy="676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129120" y="4462560"/>
                <a:ext cx="310356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η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nary>
                      <m:naryPr>
                        <m:chr m:val="∮"/>
                        <m:supHide m:val="1"/>
                      </m:naryPr>
                      <m: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×</m:t>
                        </m:r>
                        <m:r>
                          <m:t xml:space="preserve">B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8210520" y="4906800"/>
                <a:ext cx="385920" cy="50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8190000" y="3005280"/>
                <a:ext cx="449280" cy="50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5410080" y="2867040"/>
            <a:ext cx="1619280" cy="857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6066000" y="2786040"/>
                <a:ext cx="5220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3089160" y="5541840"/>
            <a:ext cx="365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 Black"/>
              </a:rPr>
              <a:t>For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 a current loop due to a magnetic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 rot="20017800">
            <a:off x="2752560" y="2486160"/>
            <a:ext cx="3686400" cy="122868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00160" y="1324080"/>
            <a:ext cx="5859360" cy="5333400"/>
            <a:chOff x="200160" y="1324080"/>
            <a:chExt cx="5859360" cy="5333400"/>
          </a:xfrm>
        </p:grpSpPr>
        <p:sp>
          <p:nvSpPr>
            <p:cNvPr id="133" name=""/>
            <p:cNvSpPr/>
            <p:nvPr/>
          </p:nvSpPr>
          <p:spPr>
            <a:xfrm>
              <a:off x="200160" y="1324080"/>
              <a:ext cx="1609920" cy="340956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504720" y="1324080"/>
              <a:ext cx="523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973080" y="4744800"/>
              <a:ext cx="523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3095280" y="4000320"/>
              <a:ext cx="885960" cy="209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5173920" y="2001600"/>
              <a:ext cx="885600" cy="209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608480" y="1871640"/>
              <a:ext cx="4074840" cy="116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581480" y="1869840"/>
              <a:ext cx="1209600" cy="47876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2791080" y="3150720"/>
              <a:ext cx="2970000" cy="34966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188200">
              <a:off x="1490400" y="1632960"/>
              <a:ext cx="171360" cy="504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3037200">
              <a:off x="5647680" y="2902320"/>
              <a:ext cx="126720" cy="395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3962520" y="133200"/>
                <a:ext cx="4584600" cy="149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∮"/>
                        <m:supHide m:val="1"/>
                      </m:naryPr>
                      <m: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/>
                      <m:e>
                        <m:nary>
                          <m:naryPr>
                            <m:chr m:val="∮"/>
                            <m:supHide m:val="1"/>
                          </m:naryPr>
                          <m: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  <m:sup/>
                          <m:e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d>
                              </m:den>
                            </m:f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3895560" y="5372280"/>
            <a:ext cx="5791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tual Inductance of two coi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 from one coil to an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1206360" y="711360"/>
                <a:ext cx="42552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5865840" y="2932200"/>
                <a:ext cx="50328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543560" y="4695840"/>
                <a:ext cx="42696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1789200" y="4560840"/>
                <a:ext cx="38556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2862360" y="1676520"/>
                <a:ext cx="111924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331920" y="3570120"/>
                <a:ext cx="54108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3476520" y="3362400"/>
                <a:ext cx="57960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rot="20856600">
            <a:off x="2984040" y="1317600"/>
            <a:ext cx="1198800" cy="2341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106880" y="2363760"/>
            <a:ext cx="152280" cy="314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43440" y="1876320"/>
            <a:ext cx="152280" cy="314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37960" y="228600"/>
            <a:ext cx="279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pere’s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rot="21019800">
            <a:off x="1714320" y="2323800"/>
            <a:ext cx="419040" cy="103824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1790640" y="2028960"/>
            <a:ext cx="3276720" cy="761760"/>
          </a:xfrm>
          <a:prstGeom prst="line">
            <a:avLst/>
          </a:prstGeom>
          <a:ln w="9360">
            <a:solidFill>
              <a:srgbClr val="f82b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1830240" y="1848960"/>
            <a:ext cx="3276720" cy="762120"/>
          </a:xfrm>
          <a:prstGeom prst="line">
            <a:avLst/>
          </a:prstGeom>
          <a:ln w="9360">
            <a:solidFill>
              <a:srgbClr val="f82b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860480" y="2212560"/>
            <a:ext cx="3276720" cy="762120"/>
          </a:xfrm>
          <a:prstGeom prst="line">
            <a:avLst/>
          </a:prstGeom>
          <a:ln w="9360">
            <a:solidFill>
              <a:srgbClr val="f82b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1928880" y="2433240"/>
            <a:ext cx="3276360" cy="762120"/>
          </a:xfrm>
          <a:prstGeom prst="line">
            <a:avLst/>
          </a:prstGeom>
          <a:ln w="9360">
            <a:solidFill>
              <a:srgbClr val="f82b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854360" y="1720440"/>
            <a:ext cx="3276360" cy="762120"/>
          </a:xfrm>
          <a:prstGeom prst="line">
            <a:avLst/>
          </a:prstGeom>
          <a:ln w="9360">
            <a:solidFill>
              <a:srgbClr val="f82b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019240" y="2009880"/>
            <a:ext cx="3276720" cy="761760"/>
          </a:xfrm>
          <a:prstGeom prst="line">
            <a:avLst/>
          </a:prstGeom>
          <a:ln w="9360">
            <a:solidFill>
              <a:srgbClr val="f82b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2087640" y="2230560"/>
            <a:ext cx="3276360" cy="761760"/>
          </a:xfrm>
          <a:prstGeom prst="line">
            <a:avLst/>
          </a:prstGeom>
          <a:ln w="9360">
            <a:solidFill>
              <a:srgbClr val="f82b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2070000" y="2364840"/>
            <a:ext cx="3276720" cy="762120"/>
          </a:xfrm>
          <a:prstGeom prst="line">
            <a:avLst/>
          </a:prstGeom>
          <a:ln w="9360">
            <a:solidFill>
              <a:srgbClr val="f82b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1976400" y="1871280"/>
            <a:ext cx="3276720" cy="762120"/>
          </a:xfrm>
          <a:prstGeom prst="line">
            <a:avLst/>
          </a:prstGeom>
          <a:ln w="9360">
            <a:solidFill>
              <a:srgbClr val="f82b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5403960" y="1603440"/>
                <a:ext cx="115092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3714840" y="3638520"/>
            <a:ext cx="485640" cy="2844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973240" y="1306440"/>
            <a:ext cx="486000" cy="28800"/>
          </a:xfrm>
          <a:prstGeom prst="line">
            <a:avLst/>
          </a:prstGeom>
          <a:ln w="2844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5210280" y="5010120"/>
                <a:ext cx="3814560" cy="13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∇</m:t>
                    </m:r>
                    <m:r>
                      <m:t xml:space="preserve">×</m:t>
                    </m:r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J</m:t>
                        </m:r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E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 flipV="1" rot="20728800">
            <a:off x="-2986560" y="3552120"/>
            <a:ext cx="5886000" cy="144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5f5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rot="20985600">
            <a:off x="-2439000" y="5845320"/>
            <a:ext cx="5847840" cy="1390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5f5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 rot="21350400">
            <a:off x="-3062520" y="2500560"/>
            <a:ext cx="6514560" cy="2647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5f5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20853000">
            <a:off x="-2202840" y="5544360"/>
            <a:ext cx="6057360" cy="1942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5f5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21125400">
            <a:off x="-2594880" y="5388480"/>
            <a:ext cx="6590160" cy="22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5f5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3313080" y="5824440"/>
                <a:ext cx="156528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4324320" y="2822400"/>
                <a:ext cx="4667400" cy="12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nary>
                      <m:naryPr>
                        <m:chr m:val="∮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r>
                          <m:t xml:space="preserve">B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∬"/>
                        <m:supHide m:val="1"/>
                      </m:naryPr>
                      <m:sub>
                        <m:r>
                          <m:t xml:space="preserve">S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J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ε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E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t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7" name=""/>
          <p:cNvSpPr/>
          <p:nvPr/>
        </p:nvSpPr>
        <p:spPr>
          <a:xfrm>
            <a:off x="5776560" y="0"/>
            <a:ext cx="3362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hanging </a:t>
            </a:r>
            <a:r>
              <a:rPr b="0" lang="en-US" sz="1800" spc="-1" strike="noStrike">
                <a:solidFill>
                  <a:srgbClr val="05f52d"/>
                </a:solidFill>
                <a:latin typeface="Arial"/>
              </a:rPr>
              <a:t>electric flu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rou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oop, like a </a:t>
            </a:r>
            <a:r>
              <a:rPr b="0" lang="en-US" sz="1800" spc="-1" strike="noStrike">
                <a:solidFill>
                  <a:srgbClr val="f82b02"/>
                </a:solidFill>
                <a:latin typeface="Arial"/>
              </a:rPr>
              <a:t>current flu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uces a circulation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magnetic fiel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ound the 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3562200" y="735120"/>
                <a:ext cx="64476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31760" y="3498840"/>
                <a:ext cx="69048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 rot="20856600">
            <a:off x="833040" y="3814920"/>
            <a:ext cx="1198440" cy="2341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792440" y="4373640"/>
            <a:ext cx="152280" cy="314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955880" y="4861080"/>
            <a:ext cx="152280" cy="314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147280" y="4373640"/>
            <a:ext cx="8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E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22240" y="3803760"/>
            <a:ext cx="486000" cy="28440"/>
          </a:xfrm>
          <a:prstGeom prst="line">
            <a:avLst/>
          </a:prstGeom>
          <a:ln w="2844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563840" y="6135840"/>
            <a:ext cx="485640" cy="2844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37960" y="228600"/>
            <a:ext cx="344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raday’s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4978440" y="5213520"/>
                <a:ext cx="2666880" cy="11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∇</m:t>
                    </m:r>
                    <m:r>
                      <m:t xml:space="preserve">×</m:t>
                    </m:r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149800" y="3909960"/>
                <a:ext cx="3367080" cy="11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∮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r>
                          <m:t xml:space="preserve">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∬"/>
                        <m:supHide m:val="1"/>
                      </m:naryPr>
                      <m:sub>
                        <m:r>
                          <m:t xml:space="preserve">S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89" name=""/>
          <p:cNvSpPr/>
          <p:nvPr/>
        </p:nvSpPr>
        <p:spPr>
          <a:xfrm>
            <a:off x="4371840" y="0"/>
            <a:ext cx="477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hanging </a:t>
            </a:r>
            <a:r>
              <a:rPr b="0" lang="en-US" sz="2400" spc="-1" strike="noStrike">
                <a:solidFill>
                  <a:srgbClr val="05f52d"/>
                </a:solidFill>
                <a:latin typeface="Arial"/>
              </a:rPr>
              <a:t>magnetic flu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r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oop, induces a circulation of the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lectric fiel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ound the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44880" y="4211640"/>
            <a:ext cx="485640" cy="28440"/>
          </a:xfrm>
          <a:prstGeom prst="line">
            <a:avLst/>
          </a:prstGeom>
          <a:ln w="28440">
            <a:solidFill>
              <a:srgbClr val="05f5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403280" y="1879560"/>
            <a:ext cx="486000" cy="28440"/>
          </a:xfrm>
          <a:prstGeom prst="line">
            <a:avLst/>
          </a:prstGeom>
          <a:ln w="28440">
            <a:solidFill>
              <a:srgbClr val="05f52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 rot="20728800">
            <a:off x="-2405520" y="1628280"/>
            <a:ext cx="5886000" cy="144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20985600">
            <a:off x="-1857960" y="3921120"/>
            <a:ext cx="5847840" cy="1390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 rot="21350400">
            <a:off x="-2481480" y="577080"/>
            <a:ext cx="6514560" cy="2646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rot="20853000">
            <a:off x="-1621440" y="3620160"/>
            <a:ext cx="6057360" cy="1942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rot="21125400">
            <a:off x="-2013840" y="3464640"/>
            <a:ext cx="6590160" cy="227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826920" y="1119240"/>
                <a:ext cx="156528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4133880" y="1492200"/>
                <a:ext cx="156528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 rot="20856600">
            <a:off x="1414080" y="1890720"/>
            <a:ext cx="1198440" cy="2341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373480" y="2449440"/>
            <a:ext cx="152280" cy="314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36920" y="2936880"/>
            <a:ext cx="152280" cy="314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765960" y="5288040"/>
            <a:ext cx="8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E4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7T19:10:43Z</dcterms:created>
  <dc:creator> Vageli Coutsias</dc:creator>
  <dc:description/>
  <dc:language>en-US</dc:language>
  <cp:lastModifiedBy> Vageli Coutsias</cp:lastModifiedBy>
  <dcterms:modified xsi:type="dcterms:W3CDTF">2003-04-29T05:38:58Z</dcterms:modified>
  <cp:revision>9</cp:revision>
  <dc:subject/>
  <dc:title>Slide 1</dc:title>
</cp:coreProperties>
</file>