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1D5-E000-4D5C-87F8-145599E8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C93-BB9B-4B77-BDEC-88D6B6F8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195-186B-4BC9-85F9-C2418A1E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76C-2469-4131-89B2-311E4479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3FE-B3EE-4EB7-8E73-58F4527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124-57EE-41F6-9329-4FE127F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AE3-06E7-459B-8C0D-64CE9EB3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D72-DDCC-440C-ABA6-50BE5713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848-75BB-45AE-A5F4-CBEA01E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DE3-E252-4A48-9E06-61BE875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4D5-9692-4BAC-B42A-4C708E7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C62-9144-40F2-BC46-31FC17D2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D51-0B52-4745-90FF-1F79F4D1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5f52d"/>
                </a:solidFill>
                <a:latin typeface="Arial"/>
              </a:rPr>
              <a:t>Elect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gnet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’s equations in fre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080" y="5789520"/>
            <a:ext cx="62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ynman, Lectures on Physics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s &amp; Snyder, Vector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22200" y="18900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ity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3333600"/>
            <a:ext cx="2924280" cy="281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6760" y="2392200"/>
            <a:ext cx="1923840" cy="360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4019400"/>
            <a:ext cx="23832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95920" y="4448160"/>
            <a:ext cx="4190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229080" y="3333600"/>
            <a:ext cx="57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467400" y="2809800"/>
            <a:ext cx="763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6810120" y="2447640"/>
            <a:ext cx="6660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238880" y="2448000"/>
            <a:ext cx="76320" cy="88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534440" y="2790720"/>
            <a:ext cx="1425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800840" y="3276720"/>
            <a:ext cx="954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020080" y="3848040"/>
            <a:ext cx="21888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029080" y="4305240"/>
            <a:ext cx="47628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7991280" y="4809600"/>
            <a:ext cx="571320" cy="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95920" y="4924080"/>
            <a:ext cx="495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924520" y="5324400"/>
            <a:ext cx="39996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62640" y="5715000"/>
            <a:ext cx="18108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791400" y="5943240"/>
            <a:ext cx="47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7348680" y="5933880"/>
            <a:ext cx="568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7682040" y="5610240"/>
            <a:ext cx="28080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7877160" y="5210280"/>
            <a:ext cx="48096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740560" y="5645160"/>
                <a:ext cx="387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678720" y="43210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6880" y="876240"/>
                <a:ext cx="489456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ρ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ρ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 flipH="1" flipV="1">
            <a:off x="5315040" y="3600360"/>
            <a:ext cx="54288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88120" y="3184560"/>
                <a:ext cx="352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42200" y="2075040"/>
                <a:ext cx="56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52280" y="4791240"/>
            <a:ext cx="48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change of the material (charge) in a control volum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s the net flux into th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90680" y="276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24080" y="1479600"/>
                <a:ext cx="3828960" cy="35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34080" y="4314960"/>
            <a:ext cx="952560" cy="23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10360" y="3838680"/>
            <a:ext cx="29336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6400" y="450720"/>
                <a:ext cx="28940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χ</m:t>
                            </m:r>
                          </m:e>
                        </m:d>
                        <m:r>
                          <m:t xml:space="preserve">E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ediu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 flipV="1">
            <a:off x="1019160" y="771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173240" y="92520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327320" y="10792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81040" y="1233000"/>
            <a:ext cx="657252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635120" y="13870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89200" y="15411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43280" y="16952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97000" y="18489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51080" y="20030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405160" y="2157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63640" y="5965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4212600">
            <a:off x="4172040" y="2057040"/>
            <a:ext cx="1838160" cy="261000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38800" y="2390760"/>
            <a:ext cx="761760" cy="189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649400" y="2411280"/>
            <a:ext cx="762120" cy="188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851000" y="2413080"/>
            <a:ext cx="762120" cy="19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90760" y="2471760"/>
            <a:ext cx="733320" cy="18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20800" y="2558880"/>
            <a:ext cx="676440" cy="168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70640" y="2684520"/>
            <a:ext cx="590400" cy="146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828960" y="2933640"/>
            <a:ext cx="28584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944880" y="2658960"/>
            <a:ext cx="50472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070520" y="2546280"/>
            <a:ext cx="628560" cy="156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242960" y="2433600"/>
            <a:ext cx="714600" cy="179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857920" y="2905200"/>
            <a:ext cx="419040" cy="105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754000">
            <a:off x="5714640" y="3619440"/>
            <a:ext cx="304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2754000">
            <a:off x="6352560" y="3230280"/>
            <a:ext cx="1819440" cy="3349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10080" y="4133880"/>
            <a:ext cx="85680" cy="122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029280" y="3076560"/>
            <a:ext cx="177156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467520" y="1161720"/>
            <a:ext cx="4742640" cy="46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928840" y="4471920"/>
            <a:ext cx="514440" cy="13050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01960" y="3559320"/>
            <a:ext cx="847800" cy="214308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074000" y="3244680"/>
            <a:ext cx="885600" cy="22194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111720" y="4311720"/>
            <a:ext cx="2905200" cy="182880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446880" y="5541840"/>
            <a:ext cx="1457280" cy="90504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62840" y="4610160"/>
            <a:ext cx="40968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8147160" y="432108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649920" y="5672160"/>
                <a:ext cx="552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813720" y="4197240"/>
                <a:ext cx="59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96920" y="2070000"/>
                <a:ext cx="315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×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8529480" y="2998800"/>
                <a:ext cx="471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7877160" y="2885400"/>
            <a:ext cx="7999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7760" y="200160"/>
            <a:ext cx="2648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lec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9520" y="5353200"/>
            <a:ext cx="2219400" cy="12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E):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24360" y="4305240"/>
            <a:ext cx="971640" cy="240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19720" y="3838680"/>
            <a:ext cx="2924280" cy="5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46000" y="479520"/>
                <a:ext cx="22766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M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 flipV="1">
            <a:off x="1019160" y="771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73240" y="92520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327320" y="10792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481040" y="1233000"/>
            <a:ext cx="657252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35120" y="138708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89200" y="15411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943280" y="16952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097000" y="184896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51080" y="200304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05160" y="21571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63640" y="596520"/>
            <a:ext cx="6572160" cy="413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4212600">
            <a:off x="4172040" y="2057040"/>
            <a:ext cx="1838160" cy="261000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438800" y="2390760"/>
            <a:ext cx="761760" cy="189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649400" y="2411280"/>
            <a:ext cx="762120" cy="188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851000" y="2413080"/>
            <a:ext cx="762120" cy="19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090760" y="2471760"/>
            <a:ext cx="733320" cy="18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20800" y="2558880"/>
            <a:ext cx="676440" cy="168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70640" y="2684520"/>
            <a:ext cx="590400" cy="1466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828960" y="2933640"/>
            <a:ext cx="28584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944880" y="2658960"/>
            <a:ext cx="504720" cy="12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070520" y="2546280"/>
            <a:ext cx="628560" cy="156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242960" y="2433600"/>
            <a:ext cx="714600" cy="179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57920" y="2905200"/>
            <a:ext cx="419040" cy="105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754000">
            <a:off x="5714640" y="3619440"/>
            <a:ext cx="30492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754000">
            <a:off x="6352560" y="3230280"/>
            <a:ext cx="1819440" cy="3349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410080" y="4133880"/>
            <a:ext cx="85680" cy="122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029280" y="3076560"/>
            <a:ext cx="177156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467520" y="1161720"/>
            <a:ext cx="4742640" cy="46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928840" y="4471920"/>
            <a:ext cx="514440" cy="13050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501960" y="3559320"/>
            <a:ext cx="847800" cy="214308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074000" y="3244680"/>
            <a:ext cx="885600" cy="221940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11720" y="4311720"/>
            <a:ext cx="2905200" cy="182880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446880" y="5541840"/>
            <a:ext cx="1457280" cy="90504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610160"/>
            <a:ext cx="40968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147160" y="432108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649920" y="5672160"/>
                <a:ext cx="552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13720" y="4197240"/>
                <a:ext cx="591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09480" y="2003400"/>
                <a:ext cx="274176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K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529480" y="2998800"/>
                <a:ext cx="471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flipV="1">
            <a:off x="7877160" y="2885400"/>
            <a:ext cx="7999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57760" y="200160"/>
            <a:ext cx="2648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ag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5486400"/>
            <a:ext cx="25909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B): magne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: surface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098880" y="5835600"/>
                <a:ext cx="25812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29160" y="0"/>
            <a:ext cx="55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 elementary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9360" y="3073320"/>
            <a:ext cx="228600" cy="231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990960" y="1676520"/>
            <a:ext cx="1428840" cy="1428480"/>
          </a:xfrm>
          <a:prstGeom prst="line">
            <a:avLst/>
          </a:prstGeom>
          <a:ln w="5724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942600">
            <a:off x="2962080" y="1476000"/>
            <a:ext cx="1866600" cy="34671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2040" y="4514760"/>
            <a:ext cx="2190600" cy="666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9360" y="1249200"/>
            <a:ext cx="2190600" cy="66708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81400" y="4543560"/>
            <a:ext cx="266760" cy="1238040"/>
          </a:xfrm>
          <a:prstGeom prst="line">
            <a:avLst/>
          </a:prstGeom>
          <a:ln w="5724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35400" y="658800"/>
            <a:ext cx="266760" cy="1238400"/>
          </a:xfrm>
          <a:prstGeom prst="line">
            <a:avLst/>
          </a:prstGeom>
          <a:ln w="57240">
            <a:solidFill>
              <a:srgbClr val="05f5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924440" y="2098800"/>
                <a:ext cx="58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925800" y="3335400"/>
            <a:ext cx="247680" cy="115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13320" y="1936800"/>
            <a:ext cx="247320" cy="1123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42120" y="4626000"/>
                <a:ext cx="1481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02200" y="3584520"/>
                <a:ext cx="1623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98640" y="4989600"/>
                <a:ext cx="1140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659040" y="2928960"/>
                <a:ext cx="505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86360" y="685800"/>
            <a:ext cx="325764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ving charge </a:t>
            </a:r>
            <a:r>
              <a:rPr b="0" lang="en-US" sz="2400" spc="-1" strike="noStrike">
                <a:solidFill>
                  <a:srgbClr val="f82b02"/>
                </a:solidFill>
                <a:latin typeface="Arial Black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n electric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as a 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around itsel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f52d"/>
                </a:solidFill>
                <a:latin typeface="Arial Blac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71800" y="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ng charge </a:t>
            </a:r>
            <a:r>
              <a:rPr b="0" lang="en-US" sz="3200" spc="-1" strike="noStrike">
                <a:solidFill>
                  <a:srgbClr val="f82b02"/>
                </a:solidFill>
                <a:latin typeface="Arial Black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ffected by the local values of the </a:t>
            </a:r>
            <a:r>
              <a:rPr b="0" lang="en-US" sz="3200" spc="-1" strike="noStrike">
                <a:solidFill>
                  <a:srgbClr val="05f52d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enz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44560" y="2092320"/>
                <a:ext cx="3122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rot="20242800">
            <a:off x="2590560" y="3971520"/>
            <a:ext cx="1724040" cy="23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009800">
            <a:off x="6696000" y="2324160"/>
            <a:ext cx="15429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gy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242800">
            <a:off x="3144600" y="3582720"/>
            <a:ext cx="1724040" cy="23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242800">
            <a:off x="3688920" y="3269880"/>
            <a:ext cx="1724040" cy="23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596000">
            <a:off x="1125360" y="2995200"/>
            <a:ext cx="3813480" cy="121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1480" y="4030560"/>
            <a:ext cx="507960" cy="532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68760" y="3645000"/>
            <a:ext cx="509400" cy="52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05000" y="4162320"/>
            <a:ext cx="476280" cy="43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68760" y="3652920"/>
            <a:ext cx="549360" cy="587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4133880"/>
            <a:ext cx="1936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13400">
            <a:off x="3398760" y="4070160"/>
            <a:ext cx="176400" cy="13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5610240"/>
            <a:ext cx="1714320" cy="19080"/>
          </a:xfrm>
          <a:prstGeom prst="line">
            <a:avLst/>
          </a:prstGeom>
          <a:ln w="381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33480" y="4429080"/>
            <a:ext cx="95400" cy="1000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4960" y="4327560"/>
                <a:ext cx="571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26040" y="5691240"/>
                <a:ext cx="4287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206960" y="4772160"/>
                <a:ext cx="290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10000" y="5454720"/>
            <a:ext cx="228600" cy="231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02240" y="4678200"/>
            <a:ext cx="1619280" cy="8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52920" y="3448080"/>
            <a:ext cx="533520" cy="2000160"/>
          </a:xfrm>
          <a:prstGeom prst="line">
            <a:avLst/>
          </a:prstGeom>
          <a:ln w="3816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68800" y="2747880"/>
                <a:ext cx="571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290840" y="5326200"/>
                <a:ext cx="4795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51400" y="5740560"/>
                <a:ext cx="476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 flipV="1" rot="20162400">
            <a:off x="-4567680" y="1624680"/>
            <a:ext cx="13010400" cy="394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23880" y="3309840"/>
            <a:ext cx="103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8760" y="839880"/>
                <a:ext cx="508140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ρ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" name=""/>
          <p:cNvGrpSpPr/>
          <p:nvPr/>
        </p:nvGrpSpPr>
        <p:grpSpPr>
          <a:xfrm>
            <a:off x="3567600" y="2292480"/>
            <a:ext cx="4878000" cy="3762000"/>
            <a:chOff x="3567600" y="2292480"/>
            <a:chExt cx="4878000" cy="3762000"/>
          </a:xfrm>
        </p:grpSpPr>
        <p:sp>
          <p:nvSpPr>
            <p:cNvPr id="88" name=""/>
            <p:cNvSpPr/>
            <p:nvPr/>
          </p:nvSpPr>
          <p:spPr>
            <a:xfrm rot="2695200">
              <a:off x="4371840" y="3038400"/>
              <a:ext cx="1514520" cy="29052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2706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248600" y="2514240"/>
              <a:ext cx="362160" cy="345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067000" y="4647960"/>
              <a:ext cx="2171880" cy="130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048280" y="2543400"/>
              <a:ext cx="2552760" cy="20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000920" y="4175280"/>
                  <a:ext cx="3812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45480" y="5437080"/>
                  <a:ext cx="466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945400" y="2627280"/>
                  <a:ext cx="114300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80600" y="2292480"/>
                  <a:ext cx="7650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152960" y="4408560"/>
                  <a:ext cx="795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5089680" y="3608280"/>
                  <a:ext cx="5493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1104840" y="0"/>
            <a:ext cx="556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1: Sources for </a:t>
            </a:r>
            <a:r>
              <a:rPr b="0" lang="en-US" sz="3200" spc="-1" strike="noStrike">
                <a:solidFill>
                  <a:srgbClr val="05f52d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cc00ff"/>
                </a:solidFill>
                <a:latin typeface="Arial Black"/>
              </a:rPr>
              <a:t>Gauss’  La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9040" y="274680"/>
            <a:ext cx="481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Biot-Sav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(magnetosta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714680" y="1774800"/>
                <a:ext cx="53798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13080" y="3506760"/>
                <a:ext cx="2495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647800" y="4379760"/>
            <a:ext cx="40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gnetic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6800" y="5327640"/>
                <a:ext cx="2836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18422400">
            <a:off x="333360" y="1076040"/>
            <a:ext cx="3048120" cy="1762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581120" y="628560"/>
            <a:ext cx="82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20760" y="3287880"/>
            <a:ext cx="82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467080" y="800280"/>
            <a:ext cx="3362400" cy="18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440800">
            <a:off x="2377800" y="2424240"/>
            <a:ext cx="95040" cy="43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075040" y="76320"/>
                <a:ext cx="326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04040" y="133200"/>
                <a:ext cx="355104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0680" y="208908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08280" y="2116080"/>
                <a:ext cx="566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 flipV="1">
            <a:off x="2448000" y="2638080"/>
            <a:ext cx="2962080" cy="237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410080" y="828360"/>
            <a:ext cx="40968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35280" y="2736720"/>
                <a:ext cx="479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91200" y="1670040"/>
                <a:ext cx="377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17880" y="990720"/>
                <a:ext cx="828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 flipV="1">
            <a:off x="4276440" y="361440"/>
            <a:ext cx="1523880" cy="428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4040" y="131436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gn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due to a loop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15200">
            <a:off x="6762240" y="3067200"/>
            <a:ext cx="1333800" cy="2857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802120" y="3745080"/>
            <a:ext cx="1199880" cy="295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659280" y="3745080"/>
            <a:ext cx="361800" cy="67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813440" y="4613400"/>
            <a:ext cx="361800" cy="676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9120" y="4462560"/>
                <a:ext cx="3103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10520" y="4906800"/>
                <a:ext cx="3859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190000" y="3005280"/>
                <a:ext cx="4492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410080" y="2867040"/>
            <a:ext cx="1619280" cy="857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66000" y="2786040"/>
                <a:ext cx="522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089160" y="5541840"/>
            <a:ext cx="36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current loop due to a magnet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20017800">
            <a:off x="2752560" y="2486160"/>
            <a:ext cx="3686400" cy="1228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0160" y="1324080"/>
            <a:ext cx="5859360" cy="5333400"/>
            <a:chOff x="200160" y="1324080"/>
            <a:chExt cx="5859360" cy="5333400"/>
          </a:xfrm>
        </p:grpSpPr>
        <p:sp>
          <p:nvSpPr>
            <p:cNvPr id="133" name=""/>
            <p:cNvSpPr/>
            <p:nvPr/>
          </p:nvSpPr>
          <p:spPr>
            <a:xfrm>
              <a:off x="200160" y="1324080"/>
              <a:ext cx="1609920" cy="3409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720" y="1324080"/>
              <a:ext cx="52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973080" y="4744800"/>
              <a:ext cx="52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95280" y="4000320"/>
              <a:ext cx="88596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73920" y="2001600"/>
              <a:ext cx="885600" cy="20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8480" y="1871640"/>
              <a:ext cx="4074840" cy="116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1480" y="1869840"/>
              <a:ext cx="1209600" cy="478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791080" y="3150720"/>
              <a:ext cx="2970000" cy="3496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188200">
              <a:off x="1490400" y="1632960"/>
              <a:ext cx="171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3037200">
              <a:off x="5647680" y="2902320"/>
              <a:ext cx="126720" cy="3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62520" y="133200"/>
                <a:ext cx="4584600" cy="14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∮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95560" y="537228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Inductance of two co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from one coil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206360" y="711360"/>
                <a:ext cx="4255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865840" y="2932200"/>
                <a:ext cx="5032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43560" y="4695840"/>
                <a:ext cx="426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89200" y="4560840"/>
                <a:ext cx="385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62360" y="1676520"/>
                <a:ext cx="11192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1920" y="3570120"/>
                <a:ext cx="541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476520" y="3362400"/>
                <a:ext cx="579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20856600">
            <a:off x="2984040" y="1317600"/>
            <a:ext cx="1198800" cy="23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06880" y="236376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43440" y="187632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960" y="228600"/>
            <a:ext cx="27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019800">
            <a:off x="1714320" y="2323800"/>
            <a:ext cx="419040" cy="1038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90640" y="2028960"/>
            <a:ext cx="3276720" cy="76176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30240" y="184896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60480" y="221256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28880" y="2433240"/>
            <a:ext cx="327636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854360" y="1720440"/>
            <a:ext cx="327636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19240" y="2009880"/>
            <a:ext cx="3276720" cy="76176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87640" y="2230560"/>
            <a:ext cx="3276360" cy="76176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70000" y="236484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976400" y="1871280"/>
            <a:ext cx="3276720" cy="762120"/>
          </a:xfrm>
          <a:prstGeom prst="line">
            <a:avLst/>
          </a:prstGeom>
          <a:ln w="9360">
            <a:solidFill>
              <a:srgbClr val="f82b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403960" y="1603440"/>
                <a:ext cx="1150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714840" y="3638520"/>
            <a:ext cx="485640" cy="28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3240" y="1306440"/>
            <a:ext cx="486000" cy="288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0280" y="5010120"/>
                <a:ext cx="3814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 flipV="1" rot="20728800">
            <a:off x="-2986560" y="3552120"/>
            <a:ext cx="58860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985600">
            <a:off x="-2439000" y="5845320"/>
            <a:ext cx="5847840" cy="139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 rot="21350400">
            <a:off x="-3062520" y="2500560"/>
            <a:ext cx="6514560" cy="264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853000">
            <a:off x="-2202840" y="5544360"/>
            <a:ext cx="6057360" cy="19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125400">
            <a:off x="-2594880" y="5388480"/>
            <a:ext cx="659016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13080" y="5824440"/>
                <a:ext cx="156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324320" y="2822400"/>
                <a:ext cx="46674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776560" y="0"/>
            <a:ext cx="33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nging </a:t>
            </a:r>
            <a:r>
              <a:rPr b="0" lang="en-US" sz="1800" spc="-1" strike="noStrike">
                <a:solidFill>
                  <a:srgbClr val="05f52d"/>
                </a:solidFill>
                <a:latin typeface="Arial"/>
              </a:rPr>
              <a:t>electric fl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op, like a </a:t>
            </a:r>
            <a:r>
              <a:rPr b="0" lang="en-US" sz="1800" spc="-1" strike="noStrike">
                <a:solidFill>
                  <a:srgbClr val="f82b02"/>
                </a:solidFill>
                <a:latin typeface="Arial"/>
              </a:rPr>
              <a:t>current fl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s a circulat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gnetic 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ound th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62200" y="735120"/>
                <a:ext cx="6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1760" y="3498840"/>
                <a:ext cx="690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rot="20856600">
            <a:off x="833040" y="3814920"/>
            <a:ext cx="1198440" cy="23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440" y="437364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55880" y="486108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7280" y="437364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2240" y="3803760"/>
            <a:ext cx="486000" cy="284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63840" y="6135840"/>
            <a:ext cx="485640" cy="28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37960" y="22860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978440" y="5213520"/>
                <a:ext cx="2666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49800" y="3909960"/>
                <a:ext cx="33670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371840" y="0"/>
            <a:ext cx="47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ging </a:t>
            </a:r>
            <a:r>
              <a:rPr b="0" lang="en-US" sz="2400" spc="-1" strike="noStrike">
                <a:solidFill>
                  <a:srgbClr val="05f52d"/>
                </a:solidFill>
                <a:latin typeface="Arial"/>
              </a:rPr>
              <a:t>magnetic 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, induces a circulation of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ctric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ou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4211640"/>
            <a:ext cx="485640" cy="28440"/>
          </a:xfrm>
          <a:prstGeom prst="line">
            <a:avLst/>
          </a:prstGeom>
          <a:ln w="28440">
            <a:solidFill>
              <a:srgbClr val="05f5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879560"/>
            <a:ext cx="486000" cy="28440"/>
          </a:xfrm>
          <a:prstGeom prst="line">
            <a:avLst/>
          </a:prstGeom>
          <a:ln w="28440">
            <a:solidFill>
              <a:srgbClr val="05f5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 rot="20728800">
            <a:off x="-2405520" y="1628280"/>
            <a:ext cx="5886000" cy="14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0985600">
            <a:off x="-1857960" y="3921120"/>
            <a:ext cx="5847840" cy="139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21350400">
            <a:off x="-2481480" y="577080"/>
            <a:ext cx="6514560" cy="264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853000">
            <a:off x="-1621440" y="3620160"/>
            <a:ext cx="6057360" cy="19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125400">
            <a:off x="-2013840" y="3464640"/>
            <a:ext cx="659016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26920" y="1119240"/>
                <a:ext cx="156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3880" y="1492200"/>
                <a:ext cx="1565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rot="20856600">
            <a:off x="1414080" y="1890720"/>
            <a:ext cx="1198440" cy="23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3480" y="244944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36920" y="2936880"/>
            <a:ext cx="152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65960" y="528804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9:10:43Z</dcterms:created>
  <dc:creator> Vageli Coutsias</dc:creator>
  <dc:description/>
  <dc:language>en-US</dc:language>
  <cp:lastModifiedBy> Vageli Coutsias</cp:lastModifiedBy>
  <dcterms:modified xsi:type="dcterms:W3CDTF">2003-04-29T05:38:58Z</dcterms:modified>
  <cp:revision>9</cp:revision>
  <dc:subject/>
  <dc:title>Slide 1</dc:title>
</cp:coreProperties>
</file>