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CBB-A6FB-4148-B577-3731CFF0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62F-26D4-4090-B912-AD35A176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622-075D-4D4A-ABDB-B9833720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778-81C5-4455-AD9E-EE00E1A0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5A3-8F9B-4E48-BE80-6B054D4C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220-307A-433C-B39F-18728B9A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1F4-60CE-49B9-A81E-6DCAA36D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5E5-00AD-4285-8E5F-FDAD8CE9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AF2-FEAE-495F-ADF0-F2827C84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C24-6C77-420E-89AA-FE8EF858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8A8-5095-4F93-AFA0-CDF62E6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114-7328-4F36-BD98-843ACFB1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E2C2-37B8-4CE2-AD58-D9953EF29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143000" y="304920"/>
            <a:ext cx="4572000" cy="502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304920"/>
            <a:ext cx="2743200" cy="464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143000" y="4952520"/>
            <a:ext cx="731520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4787640" y="304920"/>
            <a:ext cx="927000" cy="481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143000" y="2666520"/>
            <a:ext cx="594360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1800" y="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3593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92960" y="50166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35360" y="31496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12160" y="23115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84600" y="52452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03:44:25Z</dcterms:created>
  <dc:creator> </dc:creator>
  <dc:description/>
  <dc:language>en-US</dc:language>
  <cp:lastModifiedBy> </cp:lastModifiedBy>
  <dcterms:modified xsi:type="dcterms:W3CDTF">2005-02-17T03:44:38Z</dcterms:modified>
  <cp:revision>1</cp:revision>
  <dc:subject/>
  <dc:title>Slide 1</dc:title>
</cp:coreProperties>
</file>